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D46-4C7F-4596-9B5B-D7851DEF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66B-81D4-4028-8547-1F0789E5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FC0-E5E8-488F-8915-4F2B2219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335-83A0-4489-8746-EE45252D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87B-9A99-45A9-B64D-72D8AD02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47A-67EE-4D82-AF97-0DC6A12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9AB-8F96-4508-8225-50626486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F4F-52EC-450E-814E-6710E56D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EE4-B195-411D-BFA0-5EC86299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D63-02DF-455E-B3E6-E4F74BF2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A5C-0371-4766-AE27-51818A3E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6E9-FAD5-41C8-84EB-7FA12C5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C47B-4BBC-43B0-8912-DF85BCB61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101000" cy="1778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7560" y="25509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537192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26400" cy="2108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8370720" cy="1244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82184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0150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2:58:01Z</dcterms:created>
  <dc:creator>Graham</dc:creator>
  <dc:description/>
  <dc:language>en-US</dc:language>
  <cp:lastModifiedBy>Graham</cp:lastModifiedBy>
  <dcterms:modified xsi:type="dcterms:W3CDTF">2011-10-22T23:31:02Z</dcterms:modified>
  <cp:revision>2</cp:revision>
  <dc:subject/>
  <dc:title>Slide 1</dc:title>
</cp:coreProperties>
</file>